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B8F-26A8-4C9C-B639-2A0CEE14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7D6-1FD5-411F-ABCA-FC1834DF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BD43B-5FB1-43C9-8921-61617AB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F78EF-59E7-4885-8461-1024EECB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75507-F854-439E-A602-CFE3B44D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89861-6A81-4A57-A30C-345D47E9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D69DB-4D0B-46AC-B73F-0C3FB0A4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B31EF-0817-4595-92C6-6B7945E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19D46-94B3-4262-A8B1-58ABCE0A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8E96-BA25-4007-87C9-DC227911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6FCF4-5252-4D21-B162-FE793930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954-FBE1-4B39-99D5-C3777418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56E-B29D-4EBE-B08E-F041D2BE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4332-495B-4AC4-AF1D-2B52F49A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BD3F-B325-493F-A686-8A358214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7D4-709C-4CD2-A063-4C3DC01D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0149-5C9A-4A20-B76E-A25F178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7290-25A9-4F5D-BB85-FDA2945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4141-1F0F-404B-958D-E19A429B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85AC-12CF-438C-B34D-6171439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EAA-DC00-4D43-8D25-F2A7532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AD0-A39B-401E-ABEA-A869C5B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EED4-F8C4-4268-B4B9-E4AA316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5493-1C0B-4973-93BC-D49F71C9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8704-4074-46C7-B2B4-07ED45B6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815D-8DF5-424D-A895-D45D1489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02D5-E324-4066-B092-0D257770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7E98-92BF-4879-9AF9-5F80B13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C8B0-600A-4E06-8AA9-C71DB4F4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A01D-EAED-490D-BD0C-90A17B7B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6ED5-1E68-4C39-AD2D-66472FC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FAD-E3E9-4805-B412-87B91CF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8D6F-07DC-4C4B-901E-79601BC5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B5CA-034C-4679-9169-EDF7DC4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7A12-0B0D-44D2-B7A9-4DFB90E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EF18-F770-4ADD-B331-CF7C5D7B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B7D9-D137-4708-9081-1CB4A3B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834C-81C8-499D-BBC6-F5C6A8E3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CCCE-9E1C-4559-944F-FEAD0BA5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6F8B-D85B-48B5-9C0E-86505DA0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9D17-1385-4AE6-84BF-46DE801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0A85-A155-4571-9CD1-CED0D50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8D8-9CED-4176-AA7C-DC3B41AB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8603-7C12-4046-9EBA-0008935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E3A2-2DC6-48EC-8AB0-00DF67F6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69D1-115C-415C-B8A1-32753C87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CA31-46A5-488D-AF44-0C9566F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DA9A-810F-4843-8BE4-0FACF6ED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0037-C4D5-451F-8D38-7B1B474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0677-E07C-405A-BE48-947443C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8F275-8423-483C-831F-4E3A76AF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CFAC2-835A-498E-91CC-6C2F414D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4438-25C3-4E63-8D6D-9C78CDD8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A2F-9DDA-48F7-892E-F05DA80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A4D7-7598-4999-84A5-54FCE38E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070C-3F5E-4E85-876B-D0F3B798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4E98-ED6A-4BFF-8626-BA3B2EE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724A8-1736-46E7-8FEC-90C458E9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A4A6-98CA-453D-8B1D-7793484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7F8F-78B8-4E12-95FB-3562230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15A88-E864-4D58-ACB2-44AA65B5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7FF8-E6CA-4AEB-A9F8-BEA80CA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B3776-42B2-486F-BCF9-19760417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7278-D74C-462C-8C2F-7FF4E37A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CE6-BA68-4017-BE90-78DBD060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83A2-3A65-48DA-A60C-8168D993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BF94-6F6C-4723-8E22-AC4379FC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038F-69E5-445C-A21D-D9139810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1DE5-2C5B-4290-ADB4-8063667C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3688-32F9-478A-B925-C2078022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E2525-EC91-4F04-AAA1-3486B91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F57BF-E26F-4509-9290-1086F4D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71A9-57F8-4F7A-A9C7-2470364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00BC-0CF0-4409-91D0-8E8B06E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0F9F-B4DB-41E8-A8BC-17A5104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1B7-2F0D-46B0-8F07-9779B154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CB3F-FC26-455D-84B0-4E6C2586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DB5C-9300-48A4-AE21-6F9CE94F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5447-78E2-430A-A204-60E9DA16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43A5-0707-4AE9-A3E3-5C2F24EF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CD092-5998-44FF-872B-367716F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AD49-4C5B-4997-81EB-06370DE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9F2F-8C12-46CC-A73E-0D7731FD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B69D3-60BC-466F-81BC-554EDF40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9E17D-B1E2-4583-B24F-3A6FCE3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83F3-F0E9-4FBB-96DD-DD4D10B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30A-E6D8-44AB-8B86-28A558F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BDEA-2680-40DD-8741-635CDD2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0D4B-6D69-4E8F-A00F-98C6BE9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F073-3A2E-4B19-B244-46D1999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5F2D-547C-4D70-9323-FE3B451F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2986-7C0E-4159-B082-5A59A05D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AF16-E663-4539-B4F3-75A973A5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5D9BD-BBE0-4DCA-A7AA-AD9CCAB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F0EE-D8E5-426A-B3DF-94E8965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45E0-9DCA-4050-B0BB-292E01E2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BE56-A932-4BA1-A718-5E561777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9D2-2944-411C-A3D5-D0D9158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5C900-03F1-447E-AD06-F7850C4F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D4246-CEF7-4C25-B8EE-E4D6891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30D35-130F-44BD-8769-1BD3D256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8533-264E-4ABC-AD14-58F14171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CF262-5D36-4179-90E2-C6C00489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94C0-8A90-446F-9F2D-61F382C7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DC632-7A93-4A6D-A581-1CD8471C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E7F17-E8BF-4BA1-A96E-22D36DCD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AAA1F-FDDC-4AE2-B002-F7FF713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66BA3-7828-4470-B2FF-9EAAB710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91D-74B5-4D4F-904F-9857BE9BFCC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59F-F176-4620-BD19-B619C4C0AB7D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B41-7742-4FDD-9193-7205A996B31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8604-3ACA-4ED9-A51F-7576F7C9A83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1D7-A229-4E98-94D6-9F7315BE924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782-F396-4084-9387-96100977DDA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057B-9E83-4655-B339-B338B5AA09D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073A-E24C-4DA4-9AB0-95EA5805ADDF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E604-E654-4DD5-99C4-3EF6C3240B7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destinad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ocupación del tiempo libre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la </a:t>
            </a: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amenización de la estancia de los usuarios en los camping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llevar a cabo todas la actividades propuest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gestionar la empres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adquirir materi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buscar ayudas económic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la public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28" name="Imagen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¿Por que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Ante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crisis económica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que estamos atravesando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ir de vacaciones de camping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es una de las maneras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mas económicas para la socie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El motivo: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Falta de recursos y actividade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con las que cuenta el </a:t>
            </a:r>
            <a:r>
              <a:rPr b="0" lang="es-ES" sz="2400" spc="-1" strike="noStrike">
                <a:solidFill>
                  <a:srgbClr val="d0be40"/>
                </a:solidFill>
                <a:latin typeface="Book Antiqua"/>
              </a:rPr>
              <a:t>camping de Arcos de la fronter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1" name="Imagen 4" descr=""/>
          <p:cNvPicPr/>
          <p:nvPr/>
        </p:nvPicPr>
        <p:blipFill>
          <a:blip r:embed="rId1"/>
          <a:stretch/>
        </p:blipFill>
        <p:spPr>
          <a:xfrm>
            <a:off x="7726320" y="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1.-Ofrecer un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servicio de cal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2.-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Elevar los niveles de afluencia de client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3.-Ofrecer un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ervicio integr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4.-Facilitar la </a:t>
            </a:r>
            <a:r>
              <a:rPr b="0" lang="es-ES" sz="2400" spc="-1" strike="noStrike">
                <a:solidFill>
                  <a:srgbClr val="92d050"/>
                </a:solidFill>
                <a:latin typeface="Book Antiqua"/>
              </a:rPr>
              <a:t>integración mediante actividad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5.-Fomentar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hábitos de higiene y salu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6.-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Respetar el entorno natural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onde esta e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7.-Dar a conocer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deportes colectivos e individuales diferentes a los habitu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8.-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Inculcar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os usuarios los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valores de compañerism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amistad, respeto a sus compañeros y rivales, disciplina y juego en equip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OBJETIVOS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4" name="Imagen 4" descr=""/>
          <p:cNvPicPr/>
          <p:nvPr/>
        </p:nvPicPr>
        <p:blipFill>
          <a:blip r:embed="rId1"/>
          <a:stretch/>
        </p:blipFill>
        <p:spPr>
          <a:xfrm>
            <a:off x="7711920" y="17640"/>
            <a:ext cx="143208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ZONA DE ACTUACIÓN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98400" y="2247840"/>
            <a:ext cx="77472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Book Antiqua"/>
              </a:rPr>
              <a:t>Norte: Espera y Bornos. </a:t>
            </a:r>
            <a:r>
              <a:rPr b="0" lang="es-ES" sz="1400" spc="-1" strike="noStrike">
                <a:solidFill>
                  <a:srgbClr val="ffc000"/>
                </a:solidFill>
                <a:latin typeface="Book Antiqua"/>
              </a:rPr>
              <a:t>Noroeste: Villamartin. </a:t>
            </a:r>
            <a:r>
              <a:rPr b="0" lang="es-ES" sz="1400" spc="-1" strike="noStrike">
                <a:solidFill>
                  <a:srgbClr val="ffff00"/>
                </a:solidFill>
                <a:latin typeface="Book Antiqua"/>
              </a:rPr>
              <a:t>Este: El Bosque y Prado del Rey. </a:t>
            </a:r>
            <a:r>
              <a:rPr b="0" lang="es-ES" sz="1400" spc="-1" strike="noStrike">
                <a:solidFill>
                  <a:srgbClr val="00b050"/>
                </a:solidFill>
                <a:latin typeface="Book Antiqua"/>
              </a:rPr>
              <a:t>Sureste: Benaocaz y Ubrique. </a:t>
            </a:r>
            <a:r>
              <a:rPr b="0" lang="es-ES" sz="1400" spc="-1" strike="noStrike">
                <a:solidFill>
                  <a:srgbClr val="00b0f0"/>
                </a:solidFill>
                <a:latin typeface="Book Antiqua"/>
              </a:rPr>
              <a:t>Sur: Algar y San José del Valle. </a:t>
            </a:r>
            <a:r>
              <a:rPr b="0" lang="es-ES" sz="1400" spc="-1" strike="noStrike">
                <a:solidFill>
                  <a:srgbClr val="7030a0"/>
                </a:solidFill>
                <a:latin typeface="Book Antiqua"/>
              </a:rPr>
              <a:t>Oeste: Jerez de la Frontera.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437" name="Imagen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91540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Imagen 5" descr=""/>
          <p:cNvPicPr/>
          <p:nvPr/>
        </p:nvPicPr>
        <p:blipFill>
          <a:blip r:embed="rId2"/>
          <a:stretch/>
        </p:blipFill>
        <p:spPr>
          <a:xfrm>
            <a:off x="7686720" y="22320"/>
            <a:ext cx="14317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0" name="Imagen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3504960"/>
          </a:xfrm>
          <a:prstGeom prst="rect">
            <a:avLst/>
          </a:prstGeom>
          <a:ln w="0">
            <a:noFill/>
          </a:ln>
        </p:spPr>
      </p:pic>
      <p:pic>
        <p:nvPicPr>
          <p:cNvPr id="441" name="Imagen 4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651200"/>
          </a:xfrm>
          <a:prstGeom prst="rect">
            <a:avLst/>
          </a:prstGeom>
          <a:ln w="0">
            <a:noFill/>
          </a:ln>
        </p:spPr>
      </p:pic>
      <p:pic>
        <p:nvPicPr>
          <p:cNvPr id="442" name="Imagen 5" descr=""/>
          <p:cNvPicPr/>
          <p:nvPr/>
        </p:nvPicPr>
        <p:blipFill>
          <a:blip r:embed="rId3"/>
          <a:stretch/>
        </p:blipFill>
        <p:spPr>
          <a:xfrm>
            <a:off x="7711920" y="3024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RECURSOS 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4" name="Imagen 4" descr=""/>
          <p:cNvPicPr/>
          <p:nvPr/>
        </p:nvPicPr>
        <p:blipFill>
          <a:blip r:embed="rId1"/>
          <a:stretch/>
        </p:blipFill>
        <p:spPr>
          <a:xfrm>
            <a:off x="7738920" y="0"/>
            <a:ext cx="1432080" cy="1165320"/>
          </a:xfrm>
          <a:prstGeom prst="rect">
            <a:avLst/>
          </a:prstGeom>
          <a:ln w="0">
            <a:noFill/>
          </a:ln>
        </p:spPr>
      </p:pic>
      <p:pic>
        <p:nvPicPr>
          <p:cNvPr id="445" name="Imagen 5" descr=""/>
          <p:cNvPicPr/>
          <p:nvPr/>
        </p:nvPicPr>
        <p:blipFill>
          <a:blip r:embed="rId2"/>
          <a:stretch/>
        </p:blipFill>
        <p:spPr>
          <a:xfrm>
            <a:off x="34920" y="2286000"/>
            <a:ext cx="8945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INSTALACION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8" name="Imagen 4" descr=""/>
          <p:cNvPicPr/>
          <p:nvPr/>
        </p:nvPicPr>
        <p:blipFill>
          <a:blip r:embed="rId1"/>
          <a:stretch/>
        </p:blipFill>
        <p:spPr>
          <a:xfrm>
            <a:off x="7721640" y="0"/>
            <a:ext cx="1431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PROMOCIÓN Y DIFUSIÓN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51" name="Imagen 4" descr="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25T21:23:39Z</dcterms:modified>
  <cp:revision>28</cp:revision>
  <dc:subject/>
  <dc:title>NATURALCAMP</dc:title>
</cp:coreProperties>
</file>